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6A5-92DF-4DB8-9FA6-46B691AC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558-3A0D-4A09-BD80-AD7EC7D9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013-23FA-42D9-BC38-1A227136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28C-DFD2-4E0A-90CA-5764B4DB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12A-FDA2-45FB-A402-C6E7E00B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1CB-F03F-4A52-8B4E-69D8E311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130-0E26-4320-9D27-C6136055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501-034A-4287-93CA-7CFC134D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4FD-6B46-4A7D-A8B9-31D1769F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A52-C4C0-4C4C-8AF0-A573F84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5B1-BD7C-494D-BAF4-B59BD0F0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B45-C8BA-438E-83BF-E2CD29D2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BD62-7A31-46C9-8EFD-2052A0A6AB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　　　　稲の発芽と成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図 3" descr="IMG_0796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214280" y="1339920"/>
            <a:ext cx="6858000" cy="5518080"/>
          </a:xfrm>
          <a:prstGeom prst="rect">
            <a:avLst/>
          </a:prstGeom>
          <a:ln w="0">
            <a:noFill/>
          </a:ln>
        </p:spPr>
      </p:pic>
      <p:pic>
        <p:nvPicPr>
          <p:cNvPr id="43" name="図 4" descr="P7300001.JPG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7000920" y="714240"/>
            <a:ext cx="1785960" cy="1357560"/>
          </a:xfrm>
          <a:prstGeom prst="rect">
            <a:avLst/>
          </a:prstGeom>
          <a:ln w="0">
            <a:noFill/>
          </a:ln>
        </p:spPr>
      </p:pic>
      <p:sp>
        <p:nvSpPr>
          <p:cNvPr id="44" name="上矢印 5"/>
          <p:cNvSpPr/>
          <p:nvPr/>
        </p:nvSpPr>
        <p:spPr>
          <a:xfrm rot="2248800">
            <a:off x="6575400" y="1776240"/>
            <a:ext cx="428760" cy="2740320"/>
          </a:xfrm>
          <a:prstGeom prst="up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6"/>
          <p:cNvSpPr/>
          <p:nvPr/>
        </p:nvSpPr>
        <p:spPr>
          <a:xfrm>
            <a:off x="6500880" y="1429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皮の中の様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円/楕円 7"/>
          <p:cNvSpPr/>
          <p:nvPr/>
        </p:nvSpPr>
        <p:spPr>
          <a:xfrm>
            <a:off x="8143920" y="1000080"/>
            <a:ext cx="428760" cy="6429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上矢印 8"/>
          <p:cNvSpPr/>
          <p:nvPr/>
        </p:nvSpPr>
        <p:spPr>
          <a:xfrm rot="21191400">
            <a:off x="8326440" y="1655280"/>
            <a:ext cx="250920" cy="684360"/>
          </a:xfrm>
          <a:prstGeom prst="up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9"/>
          <p:cNvSpPr/>
          <p:nvPr/>
        </p:nvSpPr>
        <p:spPr>
          <a:xfrm>
            <a:off x="7572240" y="242892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根・くき・葉になる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上矢印 10"/>
          <p:cNvSpPr/>
          <p:nvPr/>
        </p:nvSpPr>
        <p:spPr>
          <a:xfrm rot="5400000">
            <a:off x="7039080" y="1319040"/>
            <a:ext cx="250560" cy="470160"/>
          </a:xfrm>
          <a:prstGeom prst="upArrow">
            <a:avLst>
              <a:gd name="adj1" fmla="val 50000"/>
              <a:gd name="adj2" fmla="val 50082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11"/>
          <p:cNvSpPr/>
          <p:nvPr/>
        </p:nvSpPr>
        <p:spPr>
          <a:xfrm>
            <a:off x="2571840" y="135720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養分がふくまれている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図 3" descr="P6070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図 2" descr="P6060086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6715080" y="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53" name="図 1" descr="P6070099.JPG"/>
          <p:cNvPicPr/>
          <p:nvPr/>
        </p:nvPicPr>
        <p:blipFill>
          <a:blip r:embed="rId3">
            <a:lum bright="22000"/>
          </a:blip>
          <a:stretch/>
        </p:blipFill>
        <p:spPr>
          <a:xfrm>
            <a:off x="0" y="0"/>
            <a:ext cx="2589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テキスト ボックス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発芽の様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3"/>
          <p:cNvSpPr/>
          <p:nvPr/>
        </p:nvSpPr>
        <p:spPr>
          <a:xfrm>
            <a:off x="500040" y="590400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クリックする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動画が見られ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図 3" descr="P6090111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図 2" descr="P6090115.JPG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545160" y="0"/>
            <a:ext cx="25988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図 1" descr="P6130156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74304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61" name="テキスト ボックス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稲の花の様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3"/>
          <p:cNvSpPr/>
          <p:nvPr/>
        </p:nvSpPr>
        <p:spPr>
          <a:xfrm>
            <a:off x="571680" y="5904000"/>
            <a:ext cx="307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クリックする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動画が見られ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実ができる様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3"/>
          <p:cNvSpPr/>
          <p:nvPr/>
        </p:nvSpPr>
        <p:spPr>
          <a:xfrm>
            <a:off x="571680" y="928800"/>
            <a:ext cx="29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Calibri"/>
              </a:rPr>
              <a:t>かげの部分が実で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3"/>
          <p:cNvSpPr/>
          <p:nvPr/>
        </p:nvSpPr>
        <p:spPr>
          <a:xfrm>
            <a:off x="571680" y="5904000"/>
            <a:ext cx="307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クリックする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動画が見られ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テキスト ボックス 4"/>
          <p:cNvSpPr/>
          <p:nvPr/>
        </p:nvSpPr>
        <p:spPr>
          <a:xfrm>
            <a:off x="1366920" y="1438200"/>
            <a:ext cx="735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5"/>
          <p:cNvSpPr/>
          <p:nvPr/>
        </p:nvSpPr>
        <p:spPr>
          <a:xfrm>
            <a:off x="928800" y="1571760"/>
            <a:ext cx="7143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＜出典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PA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「教育用画像素材集サイト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ww2.edu.ipa.go.jp/gz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4:35Z</dcterms:created>
  <dc:creator>開発</dc:creator>
  <dc:description/>
  <dc:language>en-US</dc:language>
  <cp:lastModifiedBy>cen-jyoho</cp:lastModifiedBy>
  <dcterms:modified xsi:type="dcterms:W3CDTF">2009-03-24T09:43:00Z</dcterms:modified>
  <cp:revision>16</cp:revision>
  <dc:subject/>
  <dc:title>稲の発芽</dc:title>
</cp:coreProperties>
</file>