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AE9E-F2CB-4BD2-AEC6-7F23D8F6C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A7B6-5FBF-4C08-9C95-C0F2E7FB2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C885-5604-4CC1-B720-B4D775114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69F0-7552-400A-9088-437B88072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F4D4-9DC3-4CE5-9F75-0E2F6C519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DD1D-1958-46AD-92F5-9C714CA4D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36B8-2B7D-46CC-B4E7-03FD7C46A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B687-36B0-4FE3-8C4A-262BFD000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5C17-4322-4579-A665-3EAB00C4F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ECCB-E4D8-4049-A5CB-EC86005FC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A2C9-8D12-4AA4-B47A-162D62E87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2D31-13E6-4E7F-8319-CC4EFF8CC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8A294-B138-4DA3-8913-C1867D873AA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テキスト ボックス 10"/>
          <p:cNvSpPr/>
          <p:nvPr/>
        </p:nvSpPr>
        <p:spPr>
          <a:xfrm>
            <a:off x="539640" y="2781360"/>
            <a:ext cx="8113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0" spc="-1" strike="noStrike">
                <a:solidFill>
                  <a:srgbClr val="000000"/>
                </a:solidFill>
                <a:latin typeface="Calibri"/>
              </a:rPr>
              <a:t>ほういじしんのつかい方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グループ化 8"/>
          <p:cNvGrpSpPr/>
          <p:nvPr/>
        </p:nvGrpSpPr>
        <p:grpSpPr>
          <a:xfrm>
            <a:off x="-641160" y="33120"/>
            <a:ext cx="7069320" cy="7089120"/>
            <a:chOff x="-641160" y="33120"/>
            <a:chExt cx="7069320" cy="7089120"/>
          </a:xfrm>
        </p:grpSpPr>
        <p:sp>
          <p:nvSpPr>
            <p:cNvPr id="43" name="円/楕円 3"/>
            <p:cNvSpPr/>
            <p:nvPr/>
          </p:nvSpPr>
          <p:spPr>
            <a:xfrm rot="18040200">
              <a:off x="296280" y="1008360"/>
              <a:ext cx="5194440" cy="51386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4" name="テキスト ボックス 4"/>
            <p:cNvSpPr/>
            <p:nvPr/>
          </p:nvSpPr>
          <p:spPr>
            <a:xfrm rot="18040200">
              <a:off x="741600" y="2064960"/>
              <a:ext cx="685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5400" spc="-1" strike="noStrike">
                  <a:solidFill>
                    <a:srgbClr val="000000"/>
                  </a:solidFill>
                  <a:latin typeface="Calibri"/>
                </a:rPr>
                <a:t>北</a:t>
              </a:r>
              <a:endParaRPr b="0" lang="en-US" sz="5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5" name="テキスト ボックス 5"/>
            <p:cNvSpPr/>
            <p:nvPr/>
          </p:nvSpPr>
          <p:spPr>
            <a:xfrm rot="18040200">
              <a:off x="4314960" y="4145040"/>
              <a:ext cx="7776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5400" spc="-1" strike="noStrike">
                  <a:solidFill>
                    <a:srgbClr val="000000"/>
                  </a:solidFill>
                  <a:latin typeface="Calibri"/>
                </a:rPr>
                <a:t>南</a:t>
              </a:r>
              <a:endParaRPr b="0" lang="en-US" sz="5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6" name="テキスト ボックス 6"/>
            <p:cNvSpPr/>
            <p:nvPr/>
          </p:nvSpPr>
          <p:spPr>
            <a:xfrm rot="18040200">
              <a:off x="1423800" y="4958280"/>
              <a:ext cx="814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5400" spc="-1" strike="noStrike">
                  <a:solidFill>
                    <a:srgbClr val="000000"/>
                  </a:solidFill>
                  <a:latin typeface="Calibri"/>
                </a:rPr>
                <a:t>西</a:t>
              </a:r>
              <a:endParaRPr b="0" lang="en-US" sz="5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7" name="テキスト ボックス 7"/>
            <p:cNvSpPr/>
            <p:nvPr/>
          </p:nvSpPr>
          <p:spPr>
            <a:xfrm rot="18040200">
              <a:off x="3663360" y="1396800"/>
              <a:ext cx="806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5400" spc="-1" strike="noStrike">
                  <a:solidFill>
                    <a:srgbClr val="000000"/>
                  </a:solidFill>
                  <a:latin typeface="Calibri"/>
                </a:rPr>
                <a:t>東</a:t>
              </a:r>
              <a:endParaRPr b="0" lang="en-US" sz="5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48" name="テキスト ボックス 10"/>
          <p:cNvSpPr/>
          <p:nvPr/>
        </p:nvSpPr>
        <p:spPr>
          <a:xfrm>
            <a:off x="5508720" y="189000"/>
            <a:ext cx="3000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Calibri"/>
              </a:rPr>
              <a:t>ほういじしんのつかい方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テキスト ボックス 11"/>
          <p:cNvSpPr/>
          <p:nvPr/>
        </p:nvSpPr>
        <p:spPr>
          <a:xfrm>
            <a:off x="5796000" y="2997360"/>
            <a:ext cx="2786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はりのうごきが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止まったら・・・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テキスト ボックス 12"/>
          <p:cNvSpPr/>
          <p:nvPr/>
        </p:nvSpPr>
        <p:spPr>
          <a:xfrm>
            <a:off x="5796000" y="4221000"/>
            <a:ext cx="280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文字ばんを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ゆっくり回して・・・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テキスト ボックス 13"/>
          <p:cNvSpPr/>
          <p:nvPr/>
        </p:nvSpPr>
        <p:spPr>
          <a:xfrm>
            <a:off x="5786280" y="5445000"/>
            <a:ext cx="3357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「北」の文字を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はりの色のついたほうに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合わせる。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円/楕円 14"/>
          <p:cNvSpPr/>
          <p:nvPr/>
        </p:nvSpPr>
        <p:spPr>
          <a:xfrm>
            <a:off x="1258920" y="1989000"/>
            <a:ext cx="3357360" cy="32148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53" name="Group 18"/>
          <p:cNvGrpSpPr/>
          <p:nvPr/>
        </p:nvGrpSpPr>
        <p:grpSpPr>
          <a:xfrm>
            <a:off x="2700360" y="2133720"/>
            <a:ext cx="431640" cy="2878920"/>
            <a:chOff x="2700360" y="2133720"/>
            <a:chExt cx="431640" cy="2878920"/>
          </a:xfrm>
        </p:grpSpPr>
        <p:sp>
          <p:nvSpPr>
            <p:cNvPr id="54" name="AutoShape 16"/>
            <p:cNvSpPr/>
            <p:nvPr/>
          </p:nvSpPr>
          <p:spPr>
            <a:xfrm>
              <a:off x="2700360" y="2133720"/>
              <a:ext cx="431640" cy="1439640"/>
            </a:xfrm>
            <a:prstGeom prst="triangle">
              <a:avLst>
                <a:gd name="adj" fmla="val 50000"/>
              </a:avLst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5" name="AutoShape 17"/>
            <p:cNvSpPr/>
            <p:nvPr/>
          </p:nvSpPr>
          <p:spPr>
            <a:xfrm flipV="1">
              <a:off x="2700360" y="3572640"/>
              <a:ext cx="431640" cy="14396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6" name="テキスト ボックス 10"/>
          <p:cNvSpPr/>
          <p:nvPr/>
        </p:nvSpPr>
        <p:spPr>
          <a:xfrm>
            <a:off x="5796000" y="1844640"/>
            <a:ext cx="3000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たいらなところに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おいて・・・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600000">
                                      <p:cBhvr>
                                        <p:cTn id="10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4000"/>
                            </p:stCondLst>
                            <p:childTnLst>
                              <p:par>
                                <p:cTn id="1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8400000">
                                      <p:cBhvr>
                                        <p:cTn id="13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6000"/>
                            </p:stCondLst>
                            <p:childTnLst>
                              <p:par>
                                <p:cTn id="1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7200000">
                                      <p:cBhvr>
                                        <p:cTn id="16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8000"/>
                            </p:stCondLst>
                            <p:childTnLst>
                              <p:par>
                                <p:cTn id="1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4200000">
                                      <p:cBhvr>
                                        <p:cTn id="19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1000"/>
                            </p:stCondLst>
                            <p:childTnLst>
                              <p:par>
                                <p:cTn id="2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800000">
                                      <p:cBhvr>
                                        <p:cTn id="25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4000"/>
                            </p:stCondLst>
                            <p:childTnLst>
                              <p:par>
                                <p:cTn id="27" nodeType="after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3600000">
                                      <p:cBhvr>
                                        <p:cTn id="2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600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3T05:40:59Z</dcterms:created>
  <dc:creator>尼崎市立小学校</dc:creator>
  <dc:description/>
  <dc:language>en-US</dc:language>
  <cp:lastModifiedBy>Shinsaku Takimoto</cp:lastModifiedBy>
  <dcterms:modified xsi:type="dcterms:W3CDTF">2009-02-01T09:09:49Z</dcterms:modified>
  <cp:revision>10</cp:revision>
  <dc:subject/>
  <dc:title>スライド 1</dc:title>
</cp:coreProperties>
</file>