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327-F0B7-49D6-BCE4-1177B84A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C31-EC13-4EA3-B411-91C4F84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543-EB33-440C-BD41-CCBFF83C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BE7-9322-4384-9051-FF022A06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751-B56B-4A5E-8384-06B6251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5BD-5CE0-419C-88D1-14CB1657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7E5-BF2E-469A-BA06-DA8538A2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A55-1079-4BE7-9FAF-07FDE510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A8D-9435-4FA9-9FE7-BD0446EF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D79-11F7-4F29-8D0E-34C0363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F95-1FBC-4A1D-8562-075601A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9A0-64A2-4286-9FFF-21FDB318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D1C-F7E8-480A-A0A6-4E76A25DE2D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3595680"/>
            <a:ext cx="6480000" cy="9558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3556080"/>
            <a:ext cx="0" cy="995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9000" y="447840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41280" y="3770280"/>
            <a:ext cx="26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部活動の交通費精算の支援ファイル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利用マニュア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9000" y="367344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29320" y="3556080"/>
            <a:ext cx="0" cy="995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56520" y="258840"/>
            <a:ext cx="97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龍 野 高 等 学 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AF1-3D86-4A11-B5FA-1BD6AB0CA7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810400" y="1943280"/>
            <a:ext cx="9360" cy="18856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371680"/>
            <a:ext cx="6289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12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行事ごと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1000" y="1122480"/>
            <a:ext cx="40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２回目以降の書類作成にあたっては、過去に作成した類似のエクセルファイルを活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すると、作成作業がより効率的に行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4160" y="87480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２回目以降の書類作成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25360" y="428616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76960" y="4844880"/>
            <a:ext cx="82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過去に作成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ファイル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読み込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3080" y="4143240"/>
            <a:ext cx="110484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訪問先や日時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加した生徒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修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14680" y="4438800"/>
            <a:ext cx="342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14880" y="4448160"/>
            <a:ext cx="314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817800" y="4245120"/>
            <a:ext cx="382680" cy="382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758040" y="4784760"/>
            <a:ext cx="7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必要と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書類の完成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1480" y="3486240"/>
            <a:ext cx="3191040" cy="276120"/>
          </a:xfrm>
          <a:prstGeom prst="rightArrow">
            <a:avLst>
              <a:gd name="adj1" fmla="val 35630"/>
              <a:gd name="adj2" fmla="val 154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2130480"/>
            <a:ext cx="5048280" cy="276120"/>
          </a:xfrm>
          <a:prstGeom prst="rightArrow">
            <a:avLst>
              <a:gd name="adj1" fmla="val 42528"/>
              <a:gd name="adj2" fmla="val 1703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634000" y="244152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88200" y="2795760"/>
            <a:ext cx="729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必要と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書類の完成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0040" y="238428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書類作成に要した時間（１回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47000" y="368604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書類作成に要した時間（２回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81600" y="3638520"/>
            <a:ext cx="18572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6080" y="36320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作成時間の短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4280" y="1714680"/>
            <a:ext cx="6186600" cy="39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C1A-4D88-460F-B02C-7DF3B22627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79720" y="624204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43440" y="4524480"/>
            <a:ext cx="7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（行事ごと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26440" y="4562640"/>
            <a:ext cx="6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（行事ごと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3840" y="182520"/>
            <a:ext cx="34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エクセルファイルのシート構成と活用の流れ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000" y="750960"/>
            <a:ext cx="199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部活動の交通費精算に用いるエクセルファイル「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行命令＞行事＞旅費及宿泊費請求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」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下記のシートで構成され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400" y="7934400"/>
            <a:ext cx="5394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押印後、決裁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76840" y="1312920"/>
            <a:ext cx="1640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生徒マス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行命令簿（入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行命令簿（出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行事届　　（入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行事届　　（出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費及宿泊費請求書（入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費及宿泊費請求書（出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960" y="1249200"/>
            <a:ext cx="5931000" cy="1494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13000" y="3033720"/>
            <a:ext cx="47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同じ内容の入力が最小限となるように、入力用シートを設計しているので、同じ内容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ついてはリンクで自動表示されます。必要項目入力後、出力用シートを出力し、押印後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決裁に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14720" y="4917960"/>
            <a:ext cx="382320" cy="38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52800" y="524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生徒マス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54000" y="541980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73360" y="580716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行命令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入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751200" y="537840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60840" y="574668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行事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入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275440" y="5369040"/>
            <a:ext cx="382320" cy="38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04800" y="577548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費及宿泊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請求書（入力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8280" y="3828960"/>
            <a:ext cx="108576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引率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日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用務先　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35320" y="3825720"/>
            <a:ext cx="137160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用務先の詳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参加する生徒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生徒番号　　　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98880" y="3832200"/>
            <a:ext cx="114300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交通費の単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決裁者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9120" y="3825720"/>
            <a:ext cx="108576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生徒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生徒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・クラス　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998640" y="6778800"/>
            <a:ext cx="382320" cy="382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89200" y="716580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行命令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776760" y="6718320"/>
            <a:ext cx="382320" cy="38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739680" y="71438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行事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319720" y="674676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17680" y="71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費及宿泊費請求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114560" y="4552920"/>
            <a:ext cx="9360" cy="8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2440" y="4556160"/>
            <a:ext cx="6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（行事ごと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11760" y="4568760"/>
            <a:ext cx="93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435640" y="4568760"/>
            <a:ext cx="936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9200" y="45626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7320" y="4559400"/>
            <a:ext cx="6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3399"/>
                </a:solidFill>
                <a:latin typeface="Arial"/>
              </a:rPr>
              <a:t>（年度当初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04800" y="5638680"/>
            <a:ext cx="211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4360" y="558792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必要情報はリンク表示（自動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9080" y="5133960"/>
            <a:ext cx="1009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63440" y="4927680"/>
            <a:ext cx="7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リンク表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（自動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52960" y="561960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0" y="5581800"/>
            <a:ext cx="61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リンク表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（自動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71440" y="6267600"/>
            <a:ext cx="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5360" y="62197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9280" y="62355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1720" y="6248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73800" y="6273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97000" y="7464600"/>
            <a:ext cx="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84480" y="74325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99000" y="7470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751200" y="537840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8BB-DC10-4B1C-B40A-F0CB329194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70120" y="1312920"/>
            <a:ext cx="4725720" cy="366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40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年度始め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73520" y="75096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クラブに所属する生徒の情報を、「生徒マスタ」シートに必要事項を入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19160" y="1838160"/>
            <a:ext cx="1876320" cy="3086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67000" y="5477040"/>
            <a:ext cx="2447640" cy="1143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生徒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生徒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学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性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4F2-2054-4A06-860E-6D0DDF96C0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7480" y="1684440"/>
            <a:ext cx="5278680" cy="4097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12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行事ごと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28320" y="1122480"/>
            <a:ext cx="6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大会への参加など、部活動で外出する用務が発生した場合、「旅行命令簿（入力用）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シートに必要事項を入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6880" y="2657520"/>
            <a:ext cx="3133800" cy="1971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6095880"/>
            <a:ext cx="3000240" cy="2162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作成者職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作成者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用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用務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住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旅行期間（開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旅行期間（終了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日程（泊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日程（日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公文書受付番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代休の有無（リストから選択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760" y="874800"/>
            <a:ext cx="17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ＳＴＥＰ１　旅行命令簿を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816-8471-407A-8782-8C7F3B2274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34920" y="1176480"/>
            <a:ext cx="4980240" cy="7197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12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行事ごと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0400" y="77940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旅行命令簿の出力イメージ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720" y="1162080"/>
            <a:ext cx="5105520" cy="72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4E4-8B60-4443-8033-46C1093127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2120" y="1697040"/>
            <a:ext cx="5168880" cy="4005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12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行事ごと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28320" y="1122480"/>
            <a:ext cx="6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大会への参加など、行事に参加する生徒が確定したら、「行事届（入力用）」シート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必要事項を入力します。（紫色のセルは、旅行命令簿からのリンクによる自動表示です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666880"/>
            <a:ext cx="4114800" cy="30290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886360"/>
            <a:ext cx="4943520" cy="2181240"/>
          </a:xfrm>
          <a:prstGeom prst="foldedCorner">
            <a:avLst>
              <a:gd name="adj" fmla="val 4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所属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主催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行事概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期間（時間）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期間（時間）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時間延長（必要な場合にチェック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旅費支給対象の生徒番号、補習公欠の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旅費支給対象外の生徒番号、補習公欠の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注）生徒番号を重複入力してしまった場合には、”</a:t>
            </a: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重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と表示するように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3560" y="87480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ＳＴＥＰ２　行事届を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C3C-10C1-47DF-A47A-DF079ABBC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12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行事ごと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8120" y="77940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行事届の出力イメージ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43120" y="1093680"/>
            <a:ext cx="5065560" cy="731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2120" y="1085760"/>
            <a:ext cx="5381640" cy="741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F10-54E2-4DD7-B3C1-200E669446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92000" y="1762200"/>
            <a:ext cx="4815000" cy="3740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12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行事ごと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28320" y="1122480"/>
            <a:ext cx="6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大会への参加など、行事が終了したら、「旅費及宿泊費請求書（入力用）」シート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必要事項を入力します。（紫色のセルは、他のシートからのリンクによる自動表示です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5040" y="2200320"/>
            <a:ext cx="4286160" cy="3238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33600" y="5943600"/>
            <a:ext cx="2914560" cy="2181240"/>
          </a:xfrm>
          <a:prstGeom prst="foldedCorner">
            <a:avLst>
              <a:gd name="adj" fmla="val 4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入力項目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記入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クラブ長名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生徒会長名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運動部長名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学芸部長名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交通費単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交通費の支払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宿泊費単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宿泊費の支払人数　　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6440" y="87480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ＳＴＥＰ３　</a:t>
            </a:r>
            <a:r>
              <a:rPr b="1" lang="zh-TW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旅費及宿泊費請求書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を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5C6-1150-4FDC-B5CA-615004822A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9000" y="176040"/>
            <a:ext cx="6480000" cy="43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3360" y="1760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9000" y="534960"/>
            <a:ext cx="64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1280" y="182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■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行事ごとの作業 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03840" y="77940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旅費及宿泊費請求書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出力イメージ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2880" y="1514520"/>
            <a:ext cx="5857920" cy="43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2200" y="1576440"/>
            <a:ext cx="5676840" cy="424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C30-7EEF-479B-9BF4-71FDADF973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9:55:13Z</dcterms:created>
  <dc:creator>ryokoy</dc:creator>
  <dc:description/>
  <dc:language>en-US</dc:language>
  <cp:lastModifiedBy>senda</cp:lastModifiedBy>
  <dcterms:modified xsi:type="dcterms:W3CDTF">2010-03-15T01:09:31Z</dcterms:modified>
  <cp:revision>18</cp:revision>
  <dc:subject/>
  <dc:title>スライド 1</dc:title>
</cp:coreProperties>
</file>